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3004800" cy="9753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3800" spc="-1" strike="noStrike">
                <a:solidFill>
                  <a:srgbClr val="ffffff"/>
                </a:solidFill>
                <a:latin typeface="American Typewriter"/>
              </a:rPr>
              <a:t>Click to move the slide</a:t>
            </a:r>
            <a:endParaRPr b="0" lang="en-US" sz="38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7AD355-AF6A-4CFF-ADCA-38945B47B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ause IPCC-AR5 will have important political and social impact, rigorous procedures must be followed to QC the CMIP5 data and metada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86080" y="279360"/>
            <a:ext cx="95374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8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39680" y="3135240"/>
            <a:ext cx="11507400" cy="468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39680" y="8269200"/>
            <a:ext cx="11507400" cy="468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86080" y="279360"/>
            <a:ext cx="95374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8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39680" y="3135240"/>
            <a:ext cx="5615280" cy="468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936120" y="3135240"/>
            <a:ext cx="5615280" cy="468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39680" y="8269200"/>
            <a:ext cx="5615280" cy="468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36120" y="8269200"/>
            <a:ext cx="5615280" cy="468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86080" y="279360"/>
            <a:ext cx="95374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8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39680" y="3135240"/>
            <a:ext cx="3705120" cy="468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30560" y="3135240"/>
            <a:ext cx="3705120" cy="468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821080" y="3135240"/>
            <a:ext cx="3705120" cy="468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39680" y="8269200"/>
            <a:ext cx="3705120" cy="468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930560" y="8269200"/>
            <a:ext cx="3705120" cy="468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821080" y="8269200"/>
            <a:ext cx="3705120" cy="468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86080" y="279360"/>
            <a:ext cx="95374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8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39680" y="3135240"/>
            <a:ext cx="11507400" cy="98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86080" y="279360"/>
            <a:ext cx="95374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8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39680" y="3135240"/>
            <a:ext cx="11507400" cy="98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86080" y="279360"/>
            <a:ext cx="95374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8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39680" y="3135240"/>
            <a:ext cx="5615280" cy="98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936120" y="3135240"/>
            <a:ext cx="5615280" cy="98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86080" y="279360"/>
            <a:ext cx="95374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8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86080" y="279360"/>
            <a:ext cx="95374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86080" y="279360"/>
            <a:ext cx="95374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8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39680" y="3135240"/>
            <a:ext cx="5615280" cy="468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936120" y="3135240"/>
            <a:ext cx="5615280" cy="98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39680" y="8269200"/>
            <a:ext cx="5615280" cy="468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86080" y="279360"/>
            <a:ext cx="95374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8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39680" y="3135240"/>
            <a:ext cx="5615280" cy="98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936120" y="3135240"/>
            <a:ext cx="5615280" cy="468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36120" y="8269200"/>
            <a:ext cx="5615280" cy="468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86080" y="279360"/>
            <a:ext cx="95374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8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39680" y="3135240"/>
            <a:ext cx="5615280" cy="468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36120" y="3135240"/>
            <a:ext cx="5615280" cy="468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39680" y="8269200"/>
            <a:ext cx="11507400" cy="468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esgf.org" TargetMode="External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-317520" y="-150840"/>
            <a:ext cx="13383720" cy="10046880"/>
          </a:xfrm>
          <a:prstGeom prst="rect">
            <a:avLst/>
          </a:prstGeom>
          <a:ln w="12700">
            <a:noFill/>
          </a:ln>
          <a:effectLst>
            <a:outerShdw algn="ctr" blurRad="63360" dir="5400000" dist="63360" rotWithShape="0">
              <a:schemeClr val="bg2">
                <a:alpha val="67999"/>
              </a:schemeClr>
            </a:outerShdw>
          </a:effectLst>
        </p:spPr>
      </p:pic>
      <p:pic>
        <p:nvPicPr>
          <p:cNvPr id="1" name="Picture 4" descr=""/>
          <p:cNvPicPr/>
          <p:nvPr/>
        </p:nvPicPr>
        <p:blipFill>
          <a:blip r:embed="rId3"/>
          <a:stretch/>
        </p:blipFill>
        <p:spPr>
          <a:xfrm>
            <a:off x="17498880" y="6184800"/>
            <a:ext cx="9542160" cy="6698880"/>
          </a:xfrm>
          <a:prstGeom prst="rect">
            <a:avLst/>
          </a:prstGeom>
          <a:ln w="12700">
            <a:noFill/>
          </a:ln>
        </p:spPr>
      </p:pic>
      <p:sp>
        <p:nvSpPr>
          <p:cNvPr id="2" name="Rectangle 5"/>
          <p:cNvSpPr/>
          <p:nvPr/>
        </p:nvSpPr>
        <p:spPr>
          <a:xfrm>
            <a:off x="0" y="9144000"/>
            <a:ext cx="13068000" cy="647280"/>
          </a:xfrm>
          <a:prstGeom prst="rect">
            <a:avLst/>
          </a:prstGeom>
          <a:gradFill rotWithShape="0">
            <a:gsLst>
              <a:gs pos="0">
                <a:srgbClr val="ccff66"/>
              </a:gs>
              <a:gs pos="100000">
                <a:srgbClr val="464658"/>
              </a:gs>
            </a:gsLst>
            <a:lin ang="5280000"/>
          </a:gradFill>
          <a:ln w="12700">
            <a:noFill/>
          </a:ln>
          <a:effectLst>
            <a:outerShdw algn="ctr" dir="5400000" dist="406440" rotWithShape="0">
              <a:schemeClr val="bg2">
                <a:alpha val="67998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3800" spc="-1" strike="noStrike">
              <a:solidFill>
                <a:srgbClr val="ffffff"/>
              </a:solidFill>
              <a:latin typeface="American Typewriter"/>
              <a:ea typeface="ヒラギノ明朝 ProN W3"/>
            </a:endParaRPr>
          </a:p>
        </p:txBody>
      </p:sp>
      <p:sp>
        <p:nvSpPr>
          <p:cNvPr id="3" name="Line 6"/>
          <p:cNvSpPr/>
          <p:nvPr/>
        </p:nvSpPr>
        <p:spPr>
          <a:xfrm>
            <a:off x="87120" y="1206360"/>
            <a:ext cx="12744360" cy="3240"/>
          </a:xfrm>
          <a:prstGeom prst="line">
            <a:avLst/>
          </a:prstGeom>
          <a:ln w="6350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endParaRPr b="0" lang="en-US" sz="3800" spc="-1" strike="noStrike">
              <a:solidFill>
                <a:srgbClr val="ffffff"/>
              </a:solidFill>
              <a:latin typeface="American Typewriter"/>
              <a:ea typeface="ヒラギノ明朝 ProN W3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4"/>
          <a:stretch/>
        </p:blipFill>
        <p:spPr>
          <a:xfrm>
            <a:off x="101520" y="9140760"/>
            <a:ext cx="1536480" cy="599760"/>
          </a:xfrm>
          <a:prstGeom prst="rect">
            <a:avLst/>
          </a:prstGeom>
          <a:ln w="12700">
            <a:noFill/>
          </a:ln>
        </p:spPr>
      </p:pic>
      <p:sp>
        <p:nvSpPr>
          <p:cNvPr id="5" name="Line 8"/>
          <p:cNvSpPr/>
          <p:nvPr/>
        </p:nvSpPr>
        <p:spPr>
          <a:xfrm flipV="1">
            <a:off x="0" y="9080280"/>
            <a:ext cx="13068000" cy="12600"/>
          </a:xfrm>
          <a:prstGeom prst="line">
            <a:avLst/>
          </a:prstGeom>
          <a:ln w="6350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endParaRPr b="0" lang="en-US" sz="3800" spc="-1" strike="noStrike">
              <a:solidFill>
                <a:srgbClr val="ffffff"/>
              </a:solidFill>
              <a:latin typeface="American Typewriter"/>
              <a:ea typeface="ヒラギノ明朝 ProN W3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425200" y="9275760"/>
            <a:ext cx="2075400" cy="3967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</a:pPr>
            <a:r>
              <a:rPr b="0" lang="en-US" sz="26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5"/>
              </a:rPr>
              <a:t>http://esgf.org</a:t>
            </a:r>
            <a:r>
              <a:rPr b="0" lang="en-US" sz="2600" spc="-1" strike="noStrike">
                <a:solidFill>
                  <a:srgbClr val="004080"/>
                </a:solidFill>
                <a:latin typeface="Calibri"/>
                <a:ea typeface="Calibri"/>
              </a:rPr>
              <a:t>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0" descr=""/>
          <p:cNvPicPr/>
          <p:nvPr/>
        </p:nvPicPr>
        <p:blipFill>
          <a:blip r:embed="rId6"/>
          <a:stretch/>
        </p:blipFill>
        <p:spPr>
          <a:xfrm>
            <a:off x="11658600" y="38160"/>
            <a:ext cx="1091880" cy="1091880"/>
          </a:xfrm>
          <a:prstGeom prst="rect">
            <a:avLst/>
          </a:prstGeom>
          <a:ln w="12700">
            <a:noFill/>
          </a:ln>
        </p:spPr>
      </p:pic>
      <p:pic>
        <p:nvPicPr>
          <p:cNvPr id="8" name="Picture 11" descr=""/>
          <p:cNvPicPr/>
          <p:nvPr/>
        </p:nvPicPr>
        <p:blipFill>
          <a:blip r:embed="rId7"/>
          <a:stretch/>
        </p:blipFill>
        <p:spPr>
          <a:xfrm>
            <a:off x="76320" y="131760"/>
            <a:ext cx="1160280" cy="964800"/>
          </a:xfrm>
          <a:prstGeom prst="rect">
            <a:avLst/>
          </a:prstGeom>
          <a:ln w="12700">
            <a:noFill/>
          </a:ln>
        </p:spPr>
      </p:pic>
      <p:pic>
        <p:nvPicPr>
          <p:cNvPr id="9" name="Picture 12" descr=""/>
          <p:cNvPicPr/>
          <p:nvPr/>
        </p:nvPicPr>
        <p:blipFill>
          <a:blip r:embed="rId8"/>
          <a:stretch/>
        </p:blipFill>
        <p:spPr>
          <a:xfrm>
            <a:off x="11912760" y="9258480"/>
            <a:ext cx="987120" cy="444240"/>
          </a:xfrm>
          <a:prstGeom prst="rect">
            <a:avLst/>
          </a:prstGeom>
          <a:ln w="12700">
            <a:noFill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86080" y="279360"/>
            <a:ext cx="9537480" cy="76176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004080"/>
                </a:solidFill>
                <a:latin typeface="Calibri"/>
                <a:ea typeface="ヒラギノ角ゴ ProN W3"/>
              </a:rPr>
              <a:t>Click to edit Master title style</a:t>
            </a:r>
            <a:endParaRPr b="0" lang="en-US" sz="4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039680" y="3135240"/>
            <a:ext cx="11507400" cy="982944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50760" rIns="50760" tIns="50760" bIns="50760" anchor="t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ヒラギノ角ゴ ProN W3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ヒラギノ角ゴ ProN W3"/>
              </a:rPr>
              <a:t>Second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300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ヒラギノ角ゴ ProN W3"/>
              </a:rPr>
              <a:t>Third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60020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ヒラギノ角ゴ ProN W3"/>
              </a:rPr>
              <a:t>Fourth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5740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ヒラギノ角ゴ ProN W3"/>
              </a:rPr>
              <a:t>Fifth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86080" y="177840"/>
            <a:ext cx="9537480" cy="104112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004080"/>
                </a:solidFill>
                <a:latin typeface="Calibri"/>
                <a:ea typeface="ヒラギノ角ゴ ProN W3"/>
              </a:rPr>
              <a:t>CMIP5 Quality Assessment Procedure</a:t>
            </a:r>
            <a:br>
              <a:rPr sz="4000"/>
            </a:br>
            <a:r>
              <a:rPr b="0" lang="en-US" sz="4000" spc="-1" strike="noStrike">
                <a:solidFill>
                  <a:srgbClr val="004080"/>
                </a:solidFill>
                <a:latin typeface="Calibri"/>
                <a:ea typeface="ヒラギノ角ゴ ProN W3"/>
              </a:rPr>
              <a:t> </a:t>
            </a:r>
            <a:r>
              <a:rPr b="0" lang="en-US" sz="2800" spc="-1" strike="noStrike">
                <a:solidFill>
                  <a:srgbClr val="004080"/>
                </a:solidFill>
                <a:latin typeface="Calibri"/>
                <a:ea typeface="ヒラギノ角ゴ ProN W3"/>
              </a:rPr>
              <a:t>(courtesy of Luca Cinquini, JPL)</a:t>
            </a:r>
            <a:endParaRPr b="0" lang="en-US" sz="28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6045120" y="1511280"/>
            <a:ext cx="6819480" cy="2044440"/>
          </a:xfrm>
          <a:prstGeom prst="rect">
            <a:avLst/>
          </a:prstGeom>
          <a:noFill/>
          <a:ln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  <a:ea typeface="ヒラギノ明朝 ProN W3"/>
              </a:rPr>
              <a:t>QC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明朝 ProN W3"/>
              </a:rPr>
              <a:t>: “Automatic Software Checks on Data, Metadat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125000"/>
              <a:buFont typeface="Calibri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明朝 ProN W3"/>
              </a:rPr>
              <a:t>CMOR compliance (integrity of CF metadata, required global attributes, controlled vocabulary, variables conform to CMOR tables, DRS lay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125000"/>
              <a:buFont typeface="Calibri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明朝 ProN W3"/>
              </a:rPr>
              <a:t>ESG Publisher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6045120" y="3784680"/>
            <a:ext cx="6819480" cy="2044440"/>
          </a:xfrm>
          <a:prstGeom prst="rect">
            <a:avLst/>
          </a:prstGeom>
          <a:noFill/>
          <a:ln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  <a:ea typeface="ヒラギノ明朝 ProN W3"/>
              </a:rPr>
              <a:t>QC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明朝 ProN W3"/>
              </a:rPr>
              <a:t>: “Subjective Quality Control on Data, Metadat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indent="-216000">
              <a:lnSpc>
                <a:spcPct val="100000"/>
              </a:lnSpc>
              <a:buClr>
                <a:srgbClr val="000000"/>
              </a:buClr>
              <a:buSzPct val="125000"/>
              <a:buFont typeface="Calibri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明朝 ProN W3"/>
              </a:rPr>
              <a:t>Metadata: availability and technical consistency of CIM metadata from Meta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indent="-216000">
              <a:lnSpc>
                <a:spcPct val="100000"/>
              </a:lnSpc>
              <a:buClr>
                <a:srgbClr val="000000"/>
              </a:buClr>
              <a:buSzPct val="125000"/>
              <a:buFont typeface="Calibri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明朝 ProN W3"/>
              </a:rPr>
              <a:t>Data: data passes additional consistency checks performed by QC software developed @ WDC Cl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6095880" y="6058080"/>
            <a:ext cx="6819480" cy="2768400"/>
          </a:xfrm>
          <a:prstGeom prst="rect">
            <a:avLst/>
          </a:prstGeom>
          <a:noFill/>
          <a:ln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  <a:ea typeface="ヒラギノ明朝 ProN W3"/>
              </a:rPr>
              <a:t>QC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明朝 ProN W3"/>
              </a:rPr>
              <a:t>: “Double and Cross Checks on Data, Metadat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125000"/>
              <a:buFont typeface="Calibri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明朝 ProN W3"/>
              </a:rPr>
              <a:t>Scientific Quality Assurance (SQA): executed by the author who manually inspects the data and metadata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125000"/>
              <a:buFont typeface="Calibri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明朝 ProN W3"/>
              </a:rPr>
              <a:t>Technical Quality Assurance (TQA): automatic consistency checks of data and metadata executed by WDC Climate (World Data Center for Clim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228600" y="6781680"/>
            <a:ext cx="5498640" cy="2044440"/>
          </a:xfrm>
          <a:prstGeom prst="rect">
            <a:avLst/>
          </a:prstGeom>
          <a:noFill/>
          <a:ln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明朝 ProN W3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125000"/>
              <a:buFont typeface="Calibri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明朝 ProN W3"/>
              </a:rPr>
              <a:t>QC flag assigned after each s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125000"/>
              <a:buFont typeface="Calibri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明朝 ProN W3"/>
              </a:rPr>
              <a:t>All changes to data result in new 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125000"/>
              <a:buFont typeface="Calibri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明朝 ProN W3"/>
              </a:rPr>
              <a:t>All files are check-sum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125000"/>
              <a:buFont typeface="Calibri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明朝 ProN W3"/>
              </a:rPr>
              <a:t>Similar QC process for NASA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228600" y="1511280"/>
            <a:ext cx="5498640" cy="1599840"/>
          </a:xfrm>
          <a:prstGeom prst="rect">
            <a:avLst/>
          </a:prstGeom>
          <a:noFill/>
          <a:ln w="127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明朝 ProN W3"/>
              </a:rPr>
              <a:t>The CMIP5 archive will have extensive social and political impact &gt; model output published to the ESGF must undergo a rigorous Quality Assuranc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1"/>
          <a:stretch/>
        </p:blipFill>
        <p:spPr>
          <a:xfrm>
            <a:off x="-63360" y="3048120"/>
            <a:ext cx="6246360" cy="3735000"/>
          </a:xfrm>
          <a:prstGeom prst="rect">
            <a:avLst/>
          </a:prstGeom>
          <a:ln w="1270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86080" y="279360"/>
            <a:ext cx="9537480" cy="76176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004080"/>
                </a:solidFill>
                <a:latin typeface="Calibri"/>
                <a:ea typeface="ヒラギノ角ゴ ProN W3"/>
              </a:rPr>
              <a:t>Technical Notes for Observations</a:t>
            </a:r>
            <a:endParaRPr b="0" lang="en-US" sz="4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125280" y="1407960"/>
            <a:ext cx="4495320" cy="4203360"/>
          </a:xfrm>
          <a:prstGeom prst="rect">
            <a:avLst/>
          </a:prstGeom>
          <a:noFill/>
          <a:ln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  <a:ea typeface="ヒラギノ明朝 ProN W3"/>
              </a:rPr>
              <a:t>Standard Table of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indent="-216000">
              <a:lnSpc>
                <a:spcPct val="100000"/>
              </a:lnSpc>
              <a:buClr>
                <a:srgbClr val="000000"/>
              </a:buClr>
              <a:buSzPct val="125000"/>
              <a:buFont typeface="Calibri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ヒラギノ明朝 ProN W3"/>
              </a:rPr>
              <a:t>Purpose, point of cont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indent="-216000">
              <a:lnSpc>
                <a:spcPct val="100000"/>
              </a:lnSpc>
              <a:buClr>
                <a:srgbClr val="000000"/>
              </a:buClr>
              <a:buSzPct val="125000"/>
              <a:buFont typeface="Calibri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ヒラギノ明朝 ProN W3"/>
              </a:rPr>
              <a:t>Data field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indent="-216000">
              <a:lnSpc>
                <a:spcPct val="100000"/>
              </a:lnSpc>
              <a:buClr>
                <a:srgbClr val="000000"/>
              </a:buClr>
              <a:buSzPct val="125000"/>
              <a:buFont typeface="Calibri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ヒラギノ明朝 ProN W3"/>
              </a:rPr>
              <a:t>Data ori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indent="-216000">
              <a:lnSpc>
                <a:spcPct val="100000"/>
              </a:lnSpc>
              <a:buClr>
                <a:srgbClr val="000000"/>
              </a:buClr>
              <a:buSzPct val="125000"/>
              <a:buFont typeface="Calibri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ヒラギノ明朝 ProN W3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indent="-216000">
              <a:lnSpc>
                <a:spcPct val="100000"/>
              </a:lnSpc>
              <a:buClr>
                <a:srgbClr val="000000"/>
              </a:buClr>
              <a:buSzPct val="125000"/>
              <a:buFont typeface="Calibri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ヒラギノ明朝 ProN W3"/>
              </a:rPr>
              <a:t>Considerations for Model-Observation compar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indent="-216000">
              <a:lnSpc>
                <a:spcPct val="100000"/>
              </a:lnSpc>
              <a:buClr>
                <a:srgbClr val="000000"/>
              </a:buClr>
              <a:buSzPct val="125000"/>
              <a:buFont typeface="Calibri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ヒラギノ明朝 ProN W3"/>
              </a:rPr>
              <a:t>Instrument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indent="-216000">
              <a:lnSpc>
                <a:spcPct val="100000"/>
              </a:lnSpc>
              <a:buClr>
                <a:srgbClr val="000000"/>
              </a:buClr>
              <a:buSzPct val="125000"/>
              <a:buFont typeface="Calibri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ヒラギノ明朝 ProN W3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5443560" y="1371600"/>
            <a:ext cx="3238200" cy="3771720"/>
          </a:xfrm>
          <a:prstGeom prst="rect">
            <a:avLst/>
          </a:prstGeom>
          <a:ln w="1270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8850240" y="1365120"/>
            <a:ext cx="3239640" cy="3771720"/>
          </a:xfrm>
          <a:prstGeom prst="rect">
            <a:avLst/>
          </a:prstGeom>
          <a:ln w="1270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3"/>
          <a:stretch/>
        </p:blipFill>
        <p:spPr>
          <a:xfrm>
            <a:off x="5446800" y="5257800"/>
            <a:ext cx="3239640" cy="3771720"/>
          </a:xfrm>
          <a:prstGeom prst="rect">
            <a:avLst/>
          </a:prstGeom>
          <a:ln w="1270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4"/>
          <a:stretch/>
        </p:blipFill>
        <p:spPr>
          <a:xfrm>
            <a:off x="8847000" y="5259240"/>
            <a:ext cx="3239640" cy="3771720"/>
          </a:xfrm>
          <a:prstGeom prst="rect">
            <a:avLst/>
          </a:prstGeom>
          <a:ln w="12700">
            <a:noFill/>
          </a:ln>
        </p:spPr>
      </p:pic>
      <p:sp>
        <p:nvSpPr>
          <p:cNvPr id="67" name="Rectangle 7"/>
          <p:cNvSpPr/>
          <p:nvPr/>
        </p:nvSpPr>
        <p:spPr>
          <a:xfrm>
            <a:off x="152280" y="7785000"/>
            <a:ext cx="4508280" cy="1091880"/>
          </a:xfrm>
          <a:prstGeom prst="rect">
            <a:avLst/>
          </a:prstGeom>
          <a:noFill/>
          <a:ln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ヒラギノ明朝 ProN W3"/>
              </a:rPr>
              <a:t>Example: AIRS Air Temperature tech n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Green">
  <a:themeElements>
    <a:clrScheme name="">
      <a:dk1>
        <a:srgbClr val="ffffff"/>
      </a:dk1>
      <a:lt1>
        <a:srgbClr val="ffffff"/>
      </a:lt1>
      <a:dk2>
        <a:srgbClr val="000000"/>
      </a:dk2>
      <a:lt2>
        <a:srgbClr val="000000"/>
      </a:lt2>
      <a:accent1>
        <a:srgbClr val="bbe0e3"/>
      </a:accent1>
      <a:accent2>
        <a:srgbClr val="333399"/>
      </a:accent2>
      <a:accent3>
        <a:srgbClr val="ffffff"/>
      </a:accent3>
      <a:accent4>
        <a:srgbClr val="dadada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000000"/>
      </a:lt2>
      <a:accent1>
        <a:srgbClr val="bbe0e3"/>
      </a:accent1>
      <a:accent2>
        <a:srgbClr val="333399"/>
      </a:accent2>
      <a:accent3>
        <a:srgbClr val="ffffff"/>
      </a:accent3>
      <a:accent4>
        <a:srgbClr val="dadada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  <Pages>0</Pages>
  <Words>238</Words>
  <Characters>0</Characters>
  <Paragraphs>2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ptoukh</cp:lastModifiedBy>
  <dcterms:modified xsi:type="dcterms:W3CDTF">2011-07-13T19:53:34Z</dcterms:modified>
  <cp:revision>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Custom</vt:lpwstr>
  </property>
  <property fmtid="{D5CDD505-2E9C-101B-9397-08002B2CF9AE}" pid="4" name="Slides">
    <vt:r8>2</vt:r8>
  </property>
</Properties>
</file>